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BBB-CAC5-418C-9C0F-5D622031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EE4-6769-413D-83D6-94CF12B8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526-D3CB-48D7-AE71-649600BA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5C4-2CBC-4973-B631-6BD83A6A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9465E-D1CC-40CF-A0A6-9DDFA5DE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742BB-36CB-4468-890B-917509D3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50E47-B9EA-4774-B261-F3EA44D8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E707B-E9F5-409B-8649-88630776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1A5B6-8083-4F63-AA01-77B14EF9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D6921-DFA8-4F9C-A3D5-F44D195F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7D2E7-76DC-45E0-9469-71D18633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884-2576-4D4E-98CA-0DFC940B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86048-3296-4AFE-AC36-B69F5B2E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72D55-12FA-40DB-AECC-2EAE11A0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AE988-8389-4F99-8A68-61199B10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5065D-0CDC-404E-96D4-790DC3F1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02D84-B46B-468E-919E-C6D33BC1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E5049-400B-4A10-A492-FBB1C143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11A08-D41D-416C-9F6A-A0C7D569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BD803-3A34-47EA-B1D7-7553A19D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6912A-61F2-4113-93E3-8E1CE367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2F754-D240-43BD-AF2F-28C2B10D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70F-54D3-4DC8-89C7-63D1C30D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200DD-4A9B-494B-8D13-C2DAD404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AC82B-5F28-4A7F-ADA4-F2E13FC9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A2762-74C2-41B0-88B0-F7B8534C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4EAEA-036A-416A-852A-35683C1D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FED29-811B-4CB3-9530-1B53A4DC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1CDD6-F04D-49CD-876A-50B23737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0D121-C2BF-48B6-922D-971EEE7B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1569EF-68B4-4A6A-961E-FF95A762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009824-0A45-4D98-B7DA-058E4E37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375E80-A394-467E-9852-7669C54D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DE0-C9A6-451A-A304-7ACB579C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5F461D-F052-43DF-9416-3DAB7463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1BB6CC-047C-4FEE-85EB-CA2F0821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882F63-08DA-48A5-966A-6CF2BA7C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AE8F1E-5EF0-4933-9BB4-813EF02F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C4DF33-26AF-4082-B17C-3D4502F7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5840E9-BD61-4851-88F8-E97F64DE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60A602-53DF-4721-B0AB-213C865C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FF510A-1A7C-4C4B-B90B-D830801E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866239-1D74-450E-A8A0-9E91CC77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06673-E706-40ED-BA00-7C05F047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E210-4FBC-478D-8562-08006056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0841F-57C2-4E49-AFEC-053411BC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24FC2-4388-4ADE-AEA3-A1815E71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4F7A7-2382-4444-9D3D-65585C1E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58D60-32F4-4978-980D-D0F6806D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B5376-194A-4CC1-8F34-DAE65894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B7CA8-F3C8-4B48-AC01-49A80204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3EE38-01CA-4C7C-9E4E-4A1B5A15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32726-30CF-4500-9C1E-82F048A2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FD5CB-CAC6-488A-B754-705C2812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F8C61-2DF9-4249-B244-842191B3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C90-D8B4-40DA-BBBF-1025D97A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99239-1D62-4AB3-A15F-E8881FDE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F8EC-17D7-4F54-9E0D-78FAEA8B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F437-1E2E-44FB-8B5D-7A91582C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C288-8AB2-4E77-AFA7-03A18479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1336680"/>
            <a:ext cx="9144000" cy="552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7CEF-F34D-4EB2-880F-89C5A772F8FB}" type="datetime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Times New Roman"/>
              </a:rPr>
              <a:t>CROITORU I. MIHAE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EF4E-396B-4E68-9FC8-AABC2C54161B}" type="slidenum">
              <a:rPr b="1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9"/>
          <p:cNvSpPr/>
          <p:nvPr/>
        </p:nvSpPr>
        <p:spPr>
          <a:xfrm>
            <a:off x="0" y="1332000"/>
            <a:ext cx="9144000" cy="1440"/>
          </a:xfrm>
          <a:prstGeom prst="line">
            <a:avLst/>
          </a:prstGeom>
          <a:ln w="12600">
            <a:solidFill>
              <a:srgbClr val="bba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pic>
        <p:nvPicPr>
          <p:cNvPr id="7" name="Picture 2" descr="C:\Program Files (x86)\Microsoft Office\MEDIA\CAGCAT10\j0157763.wmf"/>
          <p:cNvPicPr/>
          <p:nvPr/>
        </p:nvPicPr>
        <p:blipFill>
          <a:blip r:embed="rId3"/>
          <a:stretch/>
        </p:blipFill>
        <p:spPr>
          <a:xfrm>
            <a:off x="6804000" y="4097160"/>
            <a:ext cx="1676520" cy="16923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3" descr="C:\Program Files (x86)\Microsoft Office\MEDIA\CAGCAT10\j0195384.wmf"/>
          <p:cNvPicPr/>
          <p:nvPr/>
        </p:nvPicPr>
        <p:blipFill>
          <a:blip r:embed="rId4"/>
          <a:stretch/>
        </p:blipFill>
        <p:spPr>
          <a:xfrm rot="19500000">
            <a:off x="826920" y="3000240"/>
            <a:ext cx="1441440" cy="147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0"/>
            <a:ext cx="9144000" cy="293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Straight Connector 11"/>
          <p:cNvSpPr/>
          <p:nvPr/>
        </p:nvSpPr>
        <p:spPr>
          <a:xfrm>
            <a:off x="0" y="2925720"/>
            <a:ext cx="9144000" cy="1800"/>
          </a:xfrm>
          <a:prstGeom prst="line">
            <a:avLst/>
          </a:prstGeom>
          <a:ln w="12600">
            <a:solidFill>
              <a:srgbClr val="6f6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514600" y="2362320"/>
            <a:ext cx="4114800" cy="112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50FB-F6F0-403A-80E5-9314D249A904}" type="datetime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C70A-7F34-4B7E-BAA5-665AA7BCF025}" type="slidenum">
              <a:rPr b="1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Times New Roman"/>
              </a:rPr>
              <a:t>CROITORU I. MIHAE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0" y="3922560"/>
            <a:ext cx="9144000" cy="293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Straight Connector 11"/>
          <p:cNvSpPr/>
          <p:nvPr/>
        </p:nvSpPr>
        <p:spPr>
          <a:xfrm>
            <a:off x="0" y="3921120"/>
            <a:ext cx="9144000" cy="1440"/>
          </a:xfrm>
          <a:prstGeom prst="line">
            <a:avLst/>
          </a:prstGeom>
          <a:ln w="12600">
            <a:solidFill>
              <a:srgbClr val="bba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2514600" y="3368520"/>
            <a:ext cx="4114800" cy="112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132A-471F-41B0-8769-64FC7CC31758}" type="datetime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8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A6D5-D7AA-483B-AB7C-64F0FC7206F2}" type="slidenum">
              <a:rPr b="1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9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Times New Roman"/>
              </a:rPr>
              <a:t>CROITORU I. MIHAE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0EE4-7511-445B-9899-45E9FDFED97F}" type="datetime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EE70-96A8-4EC6-9503-7CD59DDCFAEC}" type="slidenum">
              <a:rPr b="1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Times New Roman"/>
              </a:rPr>
              <a:t>CROITORU I. MIHAE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traight Connector 10"/>
          <p:cNvSpPr/>
          <p:nvPr/>
        </p:nvSpPr>
        <p:spPr>
          <a:xfrm flipH="1">
            <a:off x="7694280" y="1440"/>
            <a:ext cx="3240" cy="6858000"/>
          </a:xfrm>
          <a:prstGeom prst="line">
            <a:avLst/>
          </a:prstGeom>
          <a:ln w="12600">
            <a:solidFill>
              <a:srgbClr val="bba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0" y="0"/>
            <a:ext cx="7696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Garamond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6B87-D948-4637-89B3-B7861F09906E}" type="datetime">
              <a:rPr b="0" lang="ro-RO" sz="12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ffffff"/>
                </a:solidFill>
                <a:latin typeface="Times New Roman"/>
              </a:rPr>
              <a:t>CROITORU I. MIHAE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2C70-28AA-427A-9003-672A2F07EC55}" type="slidenum"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565360" y="3044880"/>
            <a:ext cx="40132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600" spc="-1" strike="noStrike">
              <a:solidFill>
                <a:srgbClr val="404040"/>
              </a:solidFill>
              <a:latin typeface="Garamond"/>
            </a:endParaRPr>
          </a:p>
        </p:txBody>
      </p:sp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2567160" y="2395440"/>
            <a:ext cx="4009680" cy="781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20" name="Footer Placeholder 3"/>
          <p:cNvSpPr/>
          <p:nvPr/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ffffff"/>
                </a:solidFill>
                <a:latin typeface="Garamond"/>
              </a:rPr>
              <a:t>CROITORU I. MIHAELA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68360" y="1844640"/>
            <a:ext cx="82296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56000" y="4759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404040"/>
                </a:solidFill>
                <a:latin typeface="Garamond"/>
              </a:rPr>
              <a:t>MASTER SLIDE</a:t>
            </a:r>
            <a:br>
              <a:rPr sz="1800"/>
            </a:br>
            <a:r>
              <a:rPr b="1" lang="ro-RO" sz="1800" spc="-1" strike="noStrike">
                <a:solidFill>
                  <a:srgbClr val="404040"/>
                </a:solidFill>
                <a:latin typeface="Garamond"/>
              </a:rPr>
              <a:t>TITLU ȘI CONȚINUT</a:t>
            </a: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ffffff"/>
                </a:solidFill>
                <a:latin typeface="Garamond"/>
              </a:rPr>
              <a:t>CROITORU I. MIHAELA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14600" y="936360"/>
            <a:ext cx="4114800" cy="7779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Garamond"/>
            </a:endParaRPr>
          </a:p>
        </p:txBody>
      </p:sp>
      <p:sp>
        <p:nvSpPr>
          <p:cNvPr id="225" name="Footer Placeholder 2"/>
          <p:cNvSpPr/>
          <p:nvPr/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ffffff"/>
                </a:solidFill>
                <a:latin typeface="Garamond"/>
              </a:rPr>
              <a:t>CROITORU I. MIHAELA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2" descr=""/>
          <p:cNvPicPr/>
          <p:nvPr/>
        </p:nvPicPr>
        <p:blipFill>
          <a:blip r:embed="rId1"/>
          <a:stretch/>
        </p:blipFill>
        <p:spPr>
          <a:xfrm>
            <a:off x="2567160" y="2316240"/>
            <a:ext cx="4009680" cy="981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27" name="Footer Placeholder 3"/>
          <p:cNvSpPr/>
          <p:nvPr/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ffffff"/>
                </a:solidFill>
                <a:latin typeface="Garamond"/>
              </a:rPr>
              <a:t>CROITORU I. MIHAELA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2:15:38Z</dcterms:created>
  <dc:creator>Mihaela</dc:creator>
  <dc:description/>
  <dc:language>en-US</dc:language>
  <cp:lastModifiedBy>Mihaela</cp:lastModifiedBy>
  <dcterms:modified xsi:type="dcterms:W3CDTF">2012-12-20T15:35:51Z</dcterms:modified>
  <cp:revision>3</cp:revision>
  <dc:subject/>
  <dc:title>Master Slide-uri</dc:title>
</cp:coreProperties>
</file>